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CAMERA.WAV" ContentType="audio/x-wav"/>
  <Override PartName="/ppt/media/image3.wmf" ContentType="image/x-wmf"/>
  <Override PartName="/ppt/media/WHOO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lick to move the slide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13CE-E6BF-4405-9C7E-41724EE057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d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Mrs. S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d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: Mrs. San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rrow body of water connecting two larger bodies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rrow body of water connecting two larger bodies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kho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ircular depression formed when the roof of a cave collap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kho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ircular depression formed when the roof of a cave collap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tural flow of water that runs through the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tural flow of water that runs through the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t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covered by shallow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t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covered by shallow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densely wooded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densely wooded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land body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land body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near the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near the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pening in the Earth’s crust where lava, ash, and gases eru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pening in the Earth’s crust where lava, ash, and gases eru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ep, narrow valley with steep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y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ep, narrow valley with steep w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arly flat area of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arly flat area of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part of the ocean that extends into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part of the ocean that extends into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ounded, elevated area of land smaller than a moun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ounded, elevated area of land smaller than a moun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ill of sand shaped by w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ill of sand shaped by w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tremely dry area with little water and few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tremely dry area with little water and few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a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in the desert with a water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a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in the desert with a water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, flat, elevated area of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, flat, elevated area of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area of slow-moving 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area of slow-moving 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ow land between hills or mou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l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ow land between hills or mou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rugged land that generally rises higher than 2,000 f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rugged land that generally rises higher than 2,000 fe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 for your test 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-in-the-bl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, Drop everything, &amp; Study ton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y for your test 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-in-the-bl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p, Drop everything, &amp; Study tonigh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body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body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al Re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cean ridge made up of skeletal remains of tiny sea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al Re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cean ridge made up of skeletal remains of tiny sea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ins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that sticks out into a lake or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ins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that sticks out into a lake or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a large body of water that is smaller than a gu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a large body of water that is smaller than a gu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thm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rrow piece of land connecting two larger lan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thm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rrow piece of land connecting two larger land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where a river deposits soil into the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where a river deposits soil into the 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surrounded entirely by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ea of land surrounded entirely by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6B26-68D5-42F3-B14F-3DB3CFA62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A325-9CA5-444B-ADC7-C376F3CC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3D40-8BF7-42E9-848C-E82962342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6D1A-84EE-4348-869B-BB03D0306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43F3-3FF7-4FC4-B1F7-16C758A17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A7F3-D746-448E-B29B-46717BDF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D264-5D59-4E4C-807B-8C6E45FA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6EE28-DDBB-4253-91BB-77DD4041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62B3-330F-4D6C-8855-638E7CE2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0C141-826D-4153-9D04-006077FD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6C932-6B85-48C1-8674-153E3867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2D8C-5A70-4BCE-8ACC-0A011D35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2886-D531-48F8-B79B-0F95E3F7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6710-F7D6-469D-9346-311831D6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629D-D65D-464F-B6CB-927849F1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890E-B0C6-4F56-AF15-8D2FFD4DB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9BB9-E7AC-4503-9025-27B4A588A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E3BC-2340-446D-AF91-78715A20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35EE-0797-4E47-8ACE-2E632EC8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08AF-C7DC-48FA-9F59-C74FBC5B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665C-5DA0-4EAD-B44F-4CBF854A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5422-156D-4139-B65B-6ADDBB02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61A9-3361-4616-AF3D-C4EDD925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754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4D43-A204-4C07-8261-A32882AD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lick to edit the title text forma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outlin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1" marL="534960" indent="-20556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econd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2" marL="82296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Third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3" marL="115200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Four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4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Fif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5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ix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6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even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50F2-9D52-4384-AD45-337FD2347ABB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lick to edit the title text forma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lick to edit the outline text forma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1" marL="534960" indent="-20556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econd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2" marL="82296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Third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3" marL="115200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Four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4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Fif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5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ix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lvl="6" marL="1481040" indent="-164520">
              <a:spcBef>
                <a:spcPts val="11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Seventh Outline Level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EE80-10F1-4740-8AAC-2CBF5BBEE5BB}" type="slidenum"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3"/>
          <p:cNvSpPr txBox="1"/>
          <p:nvPr/>
        </p:nvSpPr>
        <p:spPr>
          <a:xfrm>
            <a:off x="1447920" y="1371600"/>
            <a:ext cx="708660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151af5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eographic</a:t>
            </a:r>
            <a:endParaRPr b="0" i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151af5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151af5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andforms</a:t>
            </a:r>
            <a:endParaRPr b="0" i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151af5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286000" y="58672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3300"/>
                </a:solidFill>
                <a:latin typeface="Times New Roman"/>
              </a:rPr>
              <a:t>By: Mrs.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ff3300"/>
                </a:solidFill>
                <a:latin typeface="Times New Roman"/>
              </a:rPr>
              <a:t>San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Strai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narrow body of water connecting two larger bodies of water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Sinkhole</a:t>
            </a: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	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circular depression formed when the roof of a cave collapse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River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natural flow of water that runs through the la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Wetlands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land covered by shallow water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Fores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densely wooded la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Lake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inland body of water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oas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land near the ocean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Volcano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opening in the Earth’s crust where lava, ash, and gases erup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anyon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deep, narrow valley with steep wall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Plain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nearly flat area of la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51af5"/>
                </a:solidFill>
                <a:latin typeface="Comic Sans MS"/>
              </a:rPr>
              <a:t>Gulf</a:t>
            </a:r>
            <a:endParaRPr b="1" lang="en-US" sz="96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large part of the ocean that extends into la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Hill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rounded, elevated area of land smaller than a mountain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Dune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hill of sand shaped by wi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Desert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extremely dry area with little water and few plant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Oasis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in the desert with a water source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Plateau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large, flat, elevated area of land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Glacier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large area of slow-moving ice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Valley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low land between hills or mountain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Mountain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rugged land that generally rises higher than 2,000 feet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151af5"/>
                </a:solidFill>
                <a:latin typeface="Comic Sans MS"/>
              </a:rPr>
              <a:t>Study for your test !!!</a:t>
            </a:r>
            <a:endParaRPr b="1" lang="en-US" sz="55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Matching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Fill-in-the-blank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  <p:pic>
        <p:nvPicPr>
          <p:cNvPr id="178" name="Object 4" descr=""/>
          <p:cNvPicPr/>
          <p:nvPr/>
        </p:nvPicPr>
        <p:blipFill>
          <a:blip r:embed="rId1"/>
          <a:stretch/>
        </p:blipFill>
        <p:spPr>
          <a:xfrm>
            <a:off x="6324480" y="3048120"/>
            <a:ext cx="1776600" cy="31701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1676520" y="4191120"/>
            <a:ext cx="3886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Comic Sans MS"/>
              </a:rPr>
              <a:t>Stop, Drop everything, &amp; Study tonigh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151af5"/>
                </a:solidFill>
                <a:latin typeface="Comic Sans MS"/>
              </a:rPr>
              <a:t>Ocean</a:t>
            </a:r>
            <a:endParaRPr b="1" lang="en-US" sz="96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large body of water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Coral Reef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ocean ridge made up of skeletal remains of tiny sea animal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4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Peninsula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land that sticks out into a lake or ocean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Bay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Part of a large body of water that is smaller than a gulf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Isthmus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 narrow piece of land connecting two larger land areas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Delta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where a river deposits soil into the ocean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151af5"/>
                </a:solidFill>
                <a:latin typeface="Comic Sans MS"/>
              </a:rPr>
              <a:t>Island</a:t>
            </a:r>
            <a:endParaRPr b="1" lang="en-US" sz="7200" spc="-1" strike="noStrike">
              <a:solidFill>
                <a:srgbClr val="151af5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An area of land surrounded entirely by water</a:t>
            </a:r>
            <a:endParaRPr b="0" lang="en-US" sz="4400" spc="-1" strike="noStrike">
              <a:solidFill>
                <a:srgbClr val="ff33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22:42:24Z</dcterms:created>
  <dc:creator>one1</dc:creator>
  <dc:description/>
  <dc:language>en-US</dc:language>
  <cp:lastModifiedBy>RomaK</cp:lastModifiedBy>
  <dcterms:modified xsi:type="dcterms:W3CDTF">2015-09-04T09:43:05Z</dcterms:modified>
  <cp:revision>9</cp:revision>
  <dc:subject/>
  <dc:title>No Slide Title</dc:title>
</cp:coreProperties>
</file>